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A6C5-B8CE-4B57-B4C4-DE3CA8276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FCC6-9D23-46F0-8956-DA0CB4A51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E06C-EFDB-448E-9325-2DB94E765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309B-0069-4B42-9BCE-F6E4F882B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8468-575C-45C1-9C72-B8D0DBCA02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AF12-E41B-4B33-8111-7D2D8BF1E8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6FCA-158E-4865-A05D-0942D04BF9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90FA-388C-4EE3-83FC-C36A9DEDB0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1681-C722-4099-BCEF-E72BA1E7BF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AF5D-775F-435A-9EE1-9F4CD2057A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D3C1-DBB0-464C-B4C8-2DDFAEA487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0935-1226-4AF2-AE3D-1D8ABC6D0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5ABF-336A-485D-87BD-628B502CA0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ADAE-F04A-401B-951E-EC0E23BE39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F7FC-C54B-4A97-BDEE-06D5274E70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F282-F3D3-4DC1-9329-EAB19BB5C1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99DC-CE66-483A-ABBE-FA687F386E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5389-4549-4879-B9DC-4BD2412DC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24EF-48F5-4084-A4E0-9BEBA3854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85B6-62D1-433C-B942-447E0F608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3809-1B05-4F46-8EB1-DBC5CCED5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80B8-88CC-4545-8E05-5515EECE2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851E-3099-46AC-8C53-3E918FB08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841E-BD41-4325-8A8E-7C19D7963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B22B-0172-4F6B-AC49-D36376A0FD17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D799-4BAC-4511-A89D-163E5E3DD015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AC0B-654D-4105-8AEF-9E4B8D5E622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벡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정규화 벡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Normalized Vecto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벡터의 크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절대값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35640" y="907920"/>
            <a:ext cx="2786040" cy="2187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2600280" cy="637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566748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9BF1-6BCB-4995-BE19-7D198BDF18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코헨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서더런드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비트 아웃코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utcod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테스트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) E1 = E2 = 0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완전히 사각형 내부 선분이므로 보이는 선분으로 판정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테스트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) E1 &amp; E2 != 0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분이 온전히 절단 사각형 밖에 있으므로 제거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테스트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) E1 != 0000, E2 = 0000 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또는 그 반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교차점 계산에 의해 절단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테스트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4) E1 &amp; E2 = 00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양끝점이 모두 절단 사각형 밖에 있지만 서로 다른 선분이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교차점 계산에 의해 절단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D, D'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995640" y="1125360"/>
            <a:ext cx="4826160" cy="21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40E6-882B-43B5-961D-4DC161BD41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코헨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서더런드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선분분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분할된 선분을 대상으로 다시 테스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선분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: E3 &amp; E2 != 0000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이므로 온전히 외부 선분으로 무시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2735280" cy="2165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780000" y="1341360"/>
            <a:ext cx="295092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1165-A4C0-43BA-81E9-1A8018220F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리앙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바스키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교차점에서의 파라미터 값의 순서를 기준으로 여러 가지 경우를 판단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4680000" cy="2768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2505240" cy="39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284720" y="4797360"/>
            <a:ext cx="2647800" cy="37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E070-BE2F-4F69-B245-ACA8E21614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서더런드 핫지먼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절단 다각형을 기준으로 순서대로 절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절단 규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6634080" cy="1081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476360" y="3573360"/>
            <a:ext cx="6948360" cy="21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C210-E136-4FA2-B584-DA7A6FA556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서더런드 핫지먼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분을 연장한 직선을 기준으로 절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좌변기준의 절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절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후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개의 면을 기준으로 절단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면을 기준으로 내외부 판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ilicon Graphics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eometry Engine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 사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76360" y="1557360"/>
            <a:ext cx="6789600" cy="163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356000" y="3863880"/>
            <a:ext cx="39610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CFF3-9FC9-4105-BC76-C9DFA8D3C0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볼록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오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서더런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핫지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볼록 다각형에만 적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하나의 다각형으로 취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목 다각형 처리결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해법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각형 분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Tessell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목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볼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해법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웨일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애서톤 알고리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211640" y="1989000"/>
            <a:ext cx="4535640" cy="1352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356000" y="4149720"/>
            <a:ext cx="3816360" cy="11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1FF3-0CD4-49EA-95E5-C2FC328988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웨일러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애서톤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내부에서 외부로 가는 교차점이 추가되면 즉시 그 교차점으로부터 절단 사각형을 따라서 반 시계 방향으로 간다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가장 최근에 외부에서 내부로 들어온 교차점을 만날 때까지 간다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C-D-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로 구성되는 하나의 다각형이 완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분리된 여러 개의 다각형을 생성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378320" y="2438280"/>
            <a:ext cx="429732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1B08-7A2B-4AAA-958D-5B3C73D431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정점의 내외부 판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5184720" cy="2465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58920" y="3789360"/>
            <a:ext cx="537192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967F-35D0-4437-A692-654B174F02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동차좌표 사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점과 평면간의 거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법선벡터 방향이 면의 외부로 정의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6743880" cy="59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3671640" cy="2135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042920" y="4581360"/>
            <a:ext cx="5800680" cy="12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1FCF-C554-4CFC-B129-C40243194A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교차점 계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362480" cy="1685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64000" y="833400"/>
            <a:ext cx="3384720" cy="2698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562932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826920" y="5013360"/>
            <a:ext cx="350532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5699-17F4-4EBA-8CA4-3DB00556DB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벡터 내적과 외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내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Inner Product, Dot Produ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외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uter Product, Cross Produ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규화 법선벡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규화 외적벡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724360" y="836640"/>
            <a:ext cx="3097440" cy="1825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971640" y="1700280"/>
            <a:ext cx="4619520" cy="46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403280" y="3340080"/>
            <a:ext cx="4819680" cy="809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708360" y="4508640"/>
            <a:ext cx="5183280" cy="1868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1403280" y="4005360"/>
            <a:ext cx="205740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27F5-42F5-40F6-9F12-2281E63C1C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절단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차원좌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x’, y’, z’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정규화 장치좌표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절단 좌표계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동차 좌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292720" y="765000"/>
            <a:ext cx="3382920" cy="2722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900000" y="3500280"/>
            <a:ext cx="4781520" cy="495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971640" y="4437000"/>
            <a:ext cx="5686200" cy="628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971640" y="5445000"/>
            <a:ext cx="6486480" cy="8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EF9A-3738-4612-8B46-2953DB2E7D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절단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서더런드 핫지만 알고리즘과 유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엘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절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교차점 계산이 필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내부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외부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동일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651640" y="765000"/>
            <a:ext cx="3097080" cy="270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55640" y="3573360"/>
            <a:ext cx="3146400" cy="2544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572000" y="3500280"/>
            <a:ext cx="3529080" cy="279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31A3-7BBC-46E1-A468-0F1D3983FA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선분의 절단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384720" cy="2568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284720" y="770040"/>
            <a:ext cx="2735280" cy="2638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847960" cy="1724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971640" y="5516640"/>
            <a:ext cx="6095880" cy="92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D56B-2305-409D-8D6A-5252E01915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은면제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Hidden Surface Remov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앞 물체에 가려서 안 보이는 부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의 깊이정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값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를 기준으로 판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5761080" cy="213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581360"/>
            <a:ext cx="3313080" cy="1793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148360" y="4797360"/>
            <a:ext cx="201600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30BE-A8F5-4372-9527-1E898EE209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페인터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멀리 있는 배경위에 가까운 물체를 덧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깊이 정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Depth Sort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 필요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max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를 기준으로 물체를 정렬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332000" y="2924280"/>
            <a:ext cx="511308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86DC-4CFE-4159-8CD8-C422D7C68F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페인터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B‘, B'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min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min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보다 앞에 있으면 그것을 나중에 그려야 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min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min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보다 뒤에 있으면 그것을 먼저 그려야 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B'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또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범위가 서로 중첩되지 않으므로 어느 것을 먼저 그리던지 무관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771640" y="3213000"/>
            <a:ext cx="4104000" cy="307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CB80-795E-40A8-A117-1A2D8B9FE2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페인터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면의 분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먼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를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max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준으로 그려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max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는 같지만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또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범위가 중첩되지 않으니 어느 것을 먼저 그려도 무방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최종결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348000" y="3141720"/>
            <a:ext cx="3457440" cy="33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F90D-7BE4-4BCE-985C-BA80DCE652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페인터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시성 사이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isibility Cycle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과 침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enetr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페인터 알고리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공간 알고리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bject Space Algorith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밀도는 높지만 실행속도가 느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우에 따른 처리가 매우 복잡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432108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BB9D-C4A3-4286-88D2-B1AFD765CA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버퍼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공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s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화소공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결국 화소공간으로 사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화소공간 해상도로 은면을 판단하면 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버퍼 알고리즘의 시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0" y="1916280"/>
            <a:ext cx="3527280" cy="1498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635280" y="4076640"/>
            <a:ext cx="4753080" cy="19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180C-A053-49A4-A3EE-5DF37F09E9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버퍼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버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Z-Buffer)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또는 깊이버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Depth Buff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버퍼 알고리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Initialize Frame Buffer with Background Color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Initialize Z Buffer with Infinite Distance;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for Each Polygon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    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for Each Pixel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        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Calculate z of Intersection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        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if (Calculated z &lt; Current z of Z-Buffer) {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            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Update Z-Buffer with Calculate z;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            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Update Frame Buffer with the Color of Current Polygon;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    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2997-D3FE-424B-8350-ACFCBB5E7C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평면 표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27640" y="1052640"/>
            <a:ext cx="2735280" cy="224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2076480" cy="89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3581280" cy="90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476360" y="4508640"/>
            <a:ext cx="2924280" cy="46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0289-6ADC-40E3-BD3B-2ED314C21B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버퍼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580000" y="836640"/>
            <a:ext cx="2952720" cy="1252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5400720" cy="2165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5400720" cy="21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03C5-3D23-4D6F-918F-727459A7B8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버퍼 알고리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580000" y="981000"/>
            <a:ext cx="2592360" cy="1098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900000" y="4365720"/>
            <a:ext cx="5472360" cy="2200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900000" y="2116080"/>
            <a:ext cx="5472360" cy="21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3C8E-5AFB-4AE5-8449-0DB7BF2CA7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선형보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래스터 변환 단계에서 실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점으로부터 내부점의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깊이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Depth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및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컬러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Color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를 보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771640" y="2133720"/>
            <a:ext cx="338472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A100-36F3-432D-9237-56E619E7D5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법선벡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법선벡터 방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른 손을 명시된 정점 순으로 감싸 쥐었을 때 엄지방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28576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03280" y="1557360"/>
            <a:ext cx="3629160" cy="13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4537080" cy="201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A85B-9CD3-4A92-BF69-7B12C26D03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후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면과 후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후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Back-Facing Polygo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Front-Facing Polyg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후면제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Backface Culling, Backface Remov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과 면의 오리엔테이션만으로 판단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보이지 않는 면의 거의 절반을 제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32360" y="765000"/>
            <a:ext cx="3816360" cy="1803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003640" y="3284640"/>
            <a:ext cx="3505320" cy="242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042920" y="5950080"/>
            <a:ext cx="5505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92CE-B698-45D4-BC22-ACF6793A16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후면제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규화 가시부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법선벡터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값만으로 판단가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Enable(GL_CULL_FACE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CullFace(GL_FRONT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03280" y="1557360"/>
            <a:ext cx="4367160" cy="2139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859280" y="3789360"/>
            <a:ext cx="4105440" cy="24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7B9B-6230-47DD-807C-7D0D02DF07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표면과 이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하나의 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계방향으로 정의된 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FrontFace(GL_CC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반시계방향으로 정의된 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FrontFace(GL_C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140360" y="765000"/>
            <a:ext cx="3879720" cy="164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643280" y="2924280"/>
            <a:ext cx="3889440" cy="163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9047-8650-476D-B9E9-4231B291ED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표면과 이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후면의 이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이 결정되면 다각형의 표면과 이면 중 하나의 면만 보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엘은 표면과 이면 중 하나만을 선택하여 그 면으로 해당 다각형을 대신함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후면이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635280" y="2852640"/>
            <a:ext cx="424836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9440-3E8A-4E73-ADB1-989706393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절단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lipp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절단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윈도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Window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뷰포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iewport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저 박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cissor Box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절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시부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iew Volum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절단 다각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절단 사각형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Clip Rectang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45DD-8E85-4355-BE39-69FBD8DEBD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11-15T01:28:28Z</dcterms:modified>
  <cp:revision>563</cp:revision>
  <dc:subject/>
  <dc:title>PowerPoint 프레젠테이션</dc:title>
</cp:coreProperties>
</file>